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0BBECDA9-AFBF-4922-A892-D64D9B7FA5B6}" type="datetime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CD90906-B6DC-4312-AD24-DB5894CB8133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reports tab, click on library reports from the left list. Under the heading statistics, click on collection statistics summ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upper right hand corner, you will see subtabs labeled circulation, age, and value. Click on the age tab. Then click print under that ta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1AA-ED97-4026-B530-88AA8159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996-EB04-4DFB-943A-BD5FF62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2B8-8BC1-49FD-9A01-8D1AE170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A3E-DEE7-4D7B-864B-2AF0A8D6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E7F-A038-41E1-820D-116F3D53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07F-771B-45D0-BB28-6F4B1F4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400C-D817-4052-9E7D-9E89AE4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3F1-5BB0-42C0-B9C8-ED41886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A21A-0F8D-4ECF-BF08-35F6BB72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9EF-CC45-4332-98F8-DDB2AA4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886-C547-4E56-9519-A9D557C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F01-C3BC-401C-8455-971490F0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80E-BDFB-4E1D-98D6-2B7DE1B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EAC-65C3-4CD6-BE23-87B030C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478-5B8A-4355-A015-24761A70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05CB-373F-45CC-82D7-E7060C5C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A5F9-2FD6-42B2-801A-2555BFF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BBC33-58E9-49ED-A724-E2272ED1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3C337-CC17-492D-A440-0785104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728FC-E517-4CA6-AFE5-F2A7655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CED7D-B201-4A29-AB28-DC3DAC9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167A4-DEEF-43CE-A4F1-B6C2D28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7BF-4EA7-4945-B3B7-40675BB1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50A46-BC3F-4431-9173-697B83C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AF436-80FB-4FC8-8926-0289AFE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ED9AE-2B08-484E-8311-4844187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B4852-6A3F-4085-958B-A8C3B19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E966E-7EE0-4CC9-BFF2-4D9A43F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AE900-8C63-4891-94C1-1E879B12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34B6B-7B1C-478E-8F29-FE37D0E5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00E7-F4B0-47F8-B8F3-807FA86F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0058-7CB2-4738-986F-0BC4538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F5C5-8908-4314-8EC0-43108F6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511-6420-4832-9383-093D9A79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8EB4-DC26-45F3-B097-B36E57FB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C86F-40F4-42FF-874A-A443B9F8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2235-BE5E-40CC-BB08-4C7A6513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9350-3D3B-4FED-8917-65E8C1A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B9E0-5CB9-4ED5-9023-8ADEE09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AC64D-7875-4E25-ABDC-6ACE7D1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7F9E-9DA8-49E3-8DE0-0EAFB01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3BC5-ECDE-4D1E-B984-1716CEE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1AC5-5162-412D-B2EC-DAA7FCE0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88A0D-8898-41B4-B759-BC434FB0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0CD-A0BB-4178-ADE9-AA8AB7AD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3DC88-8458-4C70-9D00-A87F2B1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E8CF7-DEF0-4C39-A676-969AFA9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98454-9B6D-4C1B-B9E2-BC0E5DD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9B453-3068-4FAB-B8F1-466049F3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45366-BC66-408B-954D-40F1D75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4A070-B294-4A11-AFA3-A36A2D1F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5CF18-80F6-4DE8-838E-1DEFD3C9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3AB24-ED1D-453E-BA4E-BB50EE4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3372B-BE46-4988-9397-8B4E789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73B28-8558-4E7D-8906-ACB96DB2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5CB-4E23-44D4-8261-328357E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3C4E5-C0BF-4C54-8ED9-45A090A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91B87-F1C8-45F9-BEAE-B8018E18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B1C28-D7F2-4E0D-9FBD-E38D5541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CAA51-328B-4A98-A2C4-96D4EC8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62C3F-E682-4898-94C7-F61CCCE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4BDEF-1CD6-4BF4-8A29-F92D968F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7C45F-8DAF-4580-8814-A3867742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B9B29-75AA-4143-AF3B-AE50730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95078-0E71-475B-8FD7-E8330D9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6826D-1235-47C8-A2FC-4C3DDF6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C17-B8F4-4CC0-9ADC-C7446F3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C1AA9-D5A0-479C-8524-1916913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72CB0-35F7-4475-A51B-A3A8AD12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33B11-2724-4B4A-B276-94C7D160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0E351-CAF8-4051-8179-AE755422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3E303-8EFB-485C-9B52-6AE1AE7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382B1-CCE9-453A-8900-5824AFE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BE088-9ED0-4301-A231-72CC0456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C9735-B34B-4DD4-95DD-0680DFE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89CAF-96F5-4FA6-AA65-C0C53F5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B6DE0-8C4E-4565-B4A6-94EB07AD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78C-E4BF-4C25-A4F8-08015B5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FEF04-F9FC-43D1-AA75-FB621FD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045C4-FFB4-4FE3-8037-5C79671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FB371-64A1-4420-B233-8787585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F883C-BE74-4D0C-A28C-C338DB6D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D2D35-B460-418A-9C1F-90E39AA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894-39C9-468B-AC0F-A222D2B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268D0-5894-4690-90E2-4C9EAC853F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BAD3A-D9E1-498A-98BC-FD9AFC55AF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CAE0E-CB04-4225-A0FD-E8F03F8A03F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D5C65-F132-41FF-829D-04B5CC8351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1D4A3-7A9E-41E6-9D9D-5393E3656A3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EEDA7-4717-4804-BE85-6BEE4D4689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010AC-E690-477E-8E0F-14A27BF550CF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F892D-BD7E-4A99-8029-5952CC83F1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215AD-AF49-48EE-B661-78E1907DF3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C4F9A-8829-4F78-80FE-A3368767A1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EDCB4-3852-42FE-9019-D7E357E91BA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06882-AACB-4C34-B76B-55E38D8F04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C017F-C0A2-48AE-B32A-D1CC6B8D89E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249B-A8F5-45D2-8FF6-ACAEE4ABD5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ection Four: Reports and Utiliti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banner4_103112"/>
          <p:cNvPicPr/>
          <p:nvPr/>
        </p:nvPicPr>
        <p:blipFill>
          <a:blip r:embed="rId1"/>
          <a:stretch/>
        </p:blipFill>
        <p:spPr>
          <a:xfrm>
            <a:off x="923760" y="1665360"/>
            <a:ext cx="7000920" cy="3552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535200" y="5692680"/>
            <a:ext cx="18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erne Pr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T 7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042080" y="4988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Folle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CollectionAgeReport_LLP3256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rcRect l="18367" t="21889" r="6505" b="26126"/>
          <a:stretch/>
        </p:blipFill>
        <p:spPr>
          <a:xfrm>
            <a:off x="665280" y="1781280"/>
            <a:ext cx="7697520" cy="4124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 rot="5400000">
            <a:off x="2898360" y="1838160"/>
            <a:ext cx="24120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CollectionAgeReport_LLP3297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rcRect l="22428" t="18278" r="7733" b="29431"/>
          <a:stretch/>
        </p:blipFill>
        <p:spPr>
          <a:xfrm>
            <a:off x="1504800" y="1457280"/>
            <a:ext cx="6372360" cy="47242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2216160" y="160020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504800" y="1916280"/>
            <a:ext cx="268560" cy="91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773360" y="4591080"/>
            <a:ext cx="39852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2171880" y="4708440"/>
            <a:ext cx="199044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CollectionAgeReport_LLP3261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ollection Ag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rcRect l="21812" t="19153" r="7526" b="12053"/>
          <a:stretch/>
        </p:blipFill>
        <p:spPr>
          <a:xfrm>
            <a:off x="457200" y="1498680"/>
            <a:ext cx="7467480" cy="47448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5934240" y="2013120"/>
            <a:ext cx="199044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934320" y="2282760"/>
            <a:ext cx="84744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CollectionAgeReport_LLP3293-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0:50:33Z</dcterms:created>
  <dc:creator>Proctor, Laverne</dc:creator>
  <dc:description/>
  <dc:language>en-US</dc:language>
  <cp:lastModifiedBy>Proctor, Laverne</cp:lastModifiedBy>
  <dcterms:modified xsi:type="dcterms:W3CDTF">2013-03-12T04:44:33Z</dcterms:modified>
  <cp:revision>18</cp:revision>
  <dc:subject/>
  <dc:title>Slide 1</dc:title>
</cp:coreProperties>
</file>